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53A-960A-4705-B82D-94E214CA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909-06D4-4EFA-8970-315FAEB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9EA-A5FC-469F-9F25-A26EBE26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10F-76B8-4741-8E10-651189BE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F32-2FC1-4133-B0FB-5FC70B3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5E5-00F9-4F40-B94F-03693ED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1DE-4DE0-4B87-B2D6-9E2E7BE9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873-9CF5-4512-A3B4-D39D7B91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F35-1553-45C3-A45E-29DCE179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E39-554B-4260-B7C6-31194E7D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13A-AC0C-4DA6-97F3-5FE9501B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A21-B014-41C6-A5F8-45E8E2C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6A88-02BC-4532-8E4D-ACF7CBB5C17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APITOL 1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SISTEME DE OPE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98989"/>
                </a:solidFill>
                <a:latin typeface="Calibri"/>
              </a:rPr>
              <a:t>NAVIGARE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DIRECTOR PROI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Substituent text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SUNET  -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ine 1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4410000" cy="3305160"/>
          </a:xfrm>
          <a:prstGeom prst="rect">
            <a:avLst/>
          </a:prstGeom>
          <a:ln w="0">
            <a:noFill/>
          </a:ln>
        </p:spPr>
      </p:pic>
      <p:pic>
        <p:nvPicPr>
          <p:cNvPr id="47" name="Imagine 4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610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FISIER AUDIO CU FUN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agin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50" name="Imagine 10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3881520" cy="2916000"/>
          </a:xfrm>
          <a:prstGeom prst="rect">
            <a:avLst/>
          </a:prstGeom>
          <a:ln w="0">
            <a:noFill/>
          </a:ln>
        </p:spPr>
      </p:pic>
      <p:pic>
        <p:nvPicPr>
          <p:cNvPr id="51" name="Imagine 34" descr=""/>
          <p:cNvPicPr/>
          <p:nvPr/>
        </p:nvPicPr>
        <p:blipFill>
          <a:blip r:embed="rId3"/>
          <a:stretch/>
        </p:blipFill>
        <p:spPr>
          <a:xfrm>
            <a:off x="2143080" y="350028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CREAR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CREARE PAGINI WIKI 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– ADAUGARE FIS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ADAUGARE IMAGINI SUNETE PE WIK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STARE EVALUARI PE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3:45:57Z</dcterms:created>
  <dc:creator>user</dc:creator>
  <dc:description/>
  <dc:language>en-US</dc:language>
  <cp:lastModifiedBy>CARMEN</cp:lastModifiedBy>
  <dcterms:modified xsi:type="dcterms:W3CDTF">2012-02-12T15:34:06Z</dcterms:modified>
  <cp:revision>2</cp:revision>
  <dc:subject/>
  <dc:title>CAPITOL 1  </dc:title>
</cp:coreProperties>
</file>